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14919"/>
        <c:axId val="97479549"/>
      </c:barChart>
      <c:catAx>
        <c:axId val="23214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79549"/>
        <c:crosses val="autoZero"/>
        <c:auto val="1"/>
        <c:lblAlgn val="ctr"/>
        <c:lblOffset val="100"/>
        <c:noMultiLvlLbl val="0"/>
      </c:catAx>
      <c:valAx>
        <c:axId val="97479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14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994-4EDC-4723-87D7-F968A120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E12-E273-4E3B-B2B3-162D9F18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8AB-527B-439B-AFB8-2CBF3DAD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5A3-038B-4210-9BC4-98F07852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224-77B1-4A8D-ADF9-1A2C898F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8A1-2E31-4147-849F-95C2A472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DE0-6125-4FA6-82D4-FF8A8358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E08-CCE5-49D1-B88A-75543E9F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226-94E9-4C7C-A089-B038ABA4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459-6533-42AC-A3F5-7655E230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D4F-E9ED-4955-A675-D813F1D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870-6B28-4218-B3B7-666B97C2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BBF28-1616-406F-A8BE-DD5A8172D3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