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135263"/>
        <c:axId val="38702931"/>
      </c:barChart>
      <c:catAx>
        <c:axId val="641352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02931"/>
        <c:crosses val="autoZero"/>
        <c:auto val="1"/>
        <c:lblAlgn val="ctr"/>
        <c:lblOffset val="100"/>
        <c:noMultiLvlLbl val="0"/>
      </c:catAx>
      <c:valAx>
        <c:axId val="387029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352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BB9B-D829-4DF3-BAB5-4525BB820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A25D-7F1F-44A1-A43B-6AF8479D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3193-04FE-4695-9A8A-00AC10618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014F-FB8C-4940-B81D-52B4FCD0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1B02-AFC1-4DAD-9BBC-162E707D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51C3-9EF6-4F16-A0D7-5B867F56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7B16-1798-4B55-9BA1-AC9F07BB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DB4A-98AF-45D9-918A-6BA6B056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E7D2-8315-4ADB-BD4A-85716C9C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EFC7-3466-4E70-BC78-07295670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4B0C-201C-4B80-8D00-FF623B97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5E73-9860-4BBF-B08C-28CE3B21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05EC8-B2A5-403B-B8A4-C964CD95C4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