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52329"/>
        <c:axId val="20888056"/>
      </c:barChart>
      <c:catAx>
        <c:axId val="64252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8056"/>
        <c:crosses val="autoZero"/>
        <c:auto val="1"/>
        <c:lblAlgn val="ctr"/>
        <c:lblOffset val="100"/>
        <c:noMultiLvlLbl val="0"/>
      </c:catAx>
      <c:valAx>
        <c:axId val="20888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52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C38-8855-45DB-B0A4-2BBEC5BE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6F5-1008-49E4-8320-14F1019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7C2-33C2-44D9-99E9-E38EB51F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037-5691-44AC-9174-34705C9C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09F-72F5-42EC-A95E-CE3D0A5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DA4-6DA0-4448-BE9C-7BE0021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FED-5B9D-4854-95C4-D34F8C2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07A-DFB3-4BD1-8211-D0B2F010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590-09E2-4CA7-A58F-600FAAEA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EF5-BD13-4ECF-B87C-D7A4F41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4F5-725C-4115-B579-193EF45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FC1-FC99-4DEA-B822-C81D496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3BB1-EC83-4618-AB45-23857FC4D5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