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25290"/>
        <c:axId val="71318860"/>
      </c:barChart>
      <c:catAx>
        <c:axId val="43125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18860"/>
        <c:crosses val="autoZero"/>
        <c:auto val="1"/>
        <c:lblAlgn val="ctr"/>
        <c:lblOffset val="100"/>
        <c:noMultiLvlLbl val="0"/>
      </c:catAx>
      <c:valAx>
        <c:axId val="71318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25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5D0-9BC0-4420-BE9E-9FF27D7E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11A-56E7-416C-8D62-50840EDD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97B-3C63-402C-9506-DF4324E6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765-FF19-4ABB-8863-2910BF1B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24C-7FC4-49C7-9FD4-844828A2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143-51EC-4D0C-BA41-A29A7F73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E72-35BD-4176-B975-338C038A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EEE-2AEF-4284-AD2A-496F1B9F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3D2-2CAE-47EE-81B0-5083F81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2E1-2790-48AC-AC0A-8537939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ED2-EA9A-4428-AF25-82036F5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58C-7FA1-4FB4-9955-A7CF2EF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4769-CCCC-4BB5-A06C-CEE17F6EF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