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36418"/>
        <c:axId val="43834331"/>
      </c:barChart>
      <c:catAx>
        <c:axId val="50936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34331"/>
        <c:crosses val="autoZero"/>
        <c:auto val="1"/>
        <c:lblAlgn val="ctr"/>
        <c:lblOffset val="100"/>
        <c:noMultiLvlLbl val="0"/>
      </c:catAx>
      <c:valAx>
        <c:axId val="43834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36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783-2CA7-48C8-A1EE-8C25B432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998-0B4B-4E6C-A916-3A86DE49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0DB-AE1E-48A7-A978-DD388326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405-BA0C-4C06-8D68-D9D5D32F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91A-1426-4803-AD26-48BB13A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040-F61F-44CC-9EEC-3304FB0D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423-1D1E-4C32-BC4C-F54F600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BFE-DD07-458E-A1D4-F534658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C55-4308-468E-9704-7DDA397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5E8-EA5A-4872-86AF-DCEBE17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A0B-0148-456D-B87E-5FBF550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67B-24B4-43B9-B839-D1629138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79BF9-7F51-46F5-8596-213C3A322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