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86454"/>
        <c:axId val="65416411"/>
      </c:barChart>
      <c:catAx>
        <c:axId val="68186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16411"/>
        <c:crosses val="autoZero"/>
        <c:auto val="1"/>
        <c:lblAlgn val="ctr"/>
        <c:lblOffset val="100"/>
        <c:noMultiLvlLbl val="0"/>
      </c:catAx>
      <c:valAx>
        <c:axId val="65416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86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F79-A9D4-4A60-984D-98A08CC8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C9E-EE6A-4EFF-AE73-25DF7FF1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D2B-7C1D-4AAE-91DD-EA5188FC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EB3-A724-4057-951F-B0FA4A03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ACD-87A8-4D44-B91D-1D2353DF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2B98-C6EB-448C-B5F1-CD76EFF9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E11-8B5C-4C9C-9876-D17D3073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86C-B9B6-4A43-8193-61683A6A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2F9-9DAD-4F0C-A347-47741EC0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11A-2D8A-4141-9DAD-52193CB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1B2-F3BB-4E03-9129-33D6A5A6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057-8357-487F-B774-F00BD45A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974FD-2387-4EAD-ADF9-97484F3464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