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07736"/>
        <c:axId val="35347158"/>
      </c:barChart>
      <c:catAx>
        <c:axId val="94407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47158"/>
        <c:crosses val="autoZero"/>
        <c:auto val="1"/>
        <c:lblAlgn val="ctr"/>
        <c:lblOffset val="100"/>
        <c:noMultiLvlLbl val="0"/>
      </c:catAx>
      <c:valAx>
        <c:axId val="35347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07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92F-A7E8-4FF3-B74F-9B616ADB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E99-5549-45AE-879E-E04E5E3F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5E5-9DBD-4EAA-AF95-2A99521C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B42-9A74-4D18-A380-73593A99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670-41D6-4E04-BB60-3B69A6D6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650-05AE-4E3E-9781-9B5B417F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C87-EEAC-490B-9608-7C7862BB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188-4414-4682-B371-73AD5BCD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7A0-B5D8-4986-BA7E-7864AC4A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4AF-78D2-4D00-AAEA-B42B8467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07B-5004-4438-904E-75BDC52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3879-0B42-4A6E-8483-217C4D3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258E6-506C-4AAA-9F87-4B05797811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