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82489"/>
        <c:axId val="93270566"/>
      </c:barChart>
      <c:catAx>
        <c:axId val="69282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0566"/>
        <c:crosses val="autoZero"/>
        <c:auto val="1"/>
        <c:lblAlgn val="ctr"/>
        <c:lblOffset val="100"/>
        <c:noMultiLvlLbl val="0"/>
      </c:catAx>
      <c:valAx>
        <c:axId val="93270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82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70E-8CCF-4A42-AD7D-EF50C177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A6B-C7CE-4379-BCDA-9216816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852-B074-4BF1-BF40-5A76DEB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45A-8681-4A47-86C6-D0B38AC6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3DD-84C1-4360-9868-D38CB28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31E-990C-492B-9F05-A9F36BF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3D9-9041-44EC-9105-F4BC0F0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26D-1D91-4088-97CC-BF7473D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AC3-9CEF-4F8B-9ABC-67B1F04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9C3-9CC5-4BD9-9574-82F3FEB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BDF-F15E-4BE1-8C6F-CCFD409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C71-E211-4DEA-A970-EF442BC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84903-7C1C-4BFF-9737-EF034D23F9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