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49259"/>
        <c:axId val="84437330"/>
      </c:barChart>
      <c:catAx>
        <c:axId val="87649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37330"/>
        <c:crosses val="autoZero"/>
        <c:auto val="1"/>
        <c:lblAlgn val="ctr"/>
        <c:lblOffset val="100"/>
        <c:noMultiLvlLbl val="0"/>
      </c:catAx>
      <c:valAx>
        <c:axId val="84437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49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AD6-663F-469C-8F95-D5464B3B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D19-3E3E-4F8C-A6CF-B497950C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2C8-B849-4BBD-BEEE-B0BF692F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921-27A1-463F-8F27-F38DC578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C75A-CB9F-47E2-AB8B-AE621877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73C-C9C3-429D-8AF4-6B9183E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80C-EA0D-4D8E-B941-17B04651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26F-00B4-4D12-977B-38025FA1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12C-9F61-485D-8440-905639FB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E45-EC73-4FD8-9389-1F9FF2E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B1A-6923-4F12-BCC9-DF292518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ED8-D01B-4141-A006-1356DE8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186F9-8012-4B9F-B2B2-987C599EBB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