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7910836"/>
        <c:axId val="33342177"/>
      </c:barChart>
      <c:catAx>
        <c:axId val="4791083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3342177"/>
        <c:crosses val="autoZero"/>
        <c:auto val="1"/>
        <c:lblAlgn val="ctr"/>
        <c:lblOffset val="100"/>
        <c:noMultiLvlLbl val="0"/>
      </c:catAx>
      <c:valAx>
        <c:axId val="3334217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91083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43874-A05F-4AFE-AA7C-2844AD889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C5BB7-DC2A-4053-A86D-2DF953ADE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F01C6-1090-48BD-9754-C7ED4D9AA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9244B-A6D5-4DC5-8058-EFD8BBF11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4FB5C-607A-4873-9DE4-B604DD827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37B83-62E7-4D8A-A921-EFE3B7F33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A6FE4-99EB-4EA9-A2C5-C0CAE1F96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E8EC6-8B87-4462-B155-2DD0B9155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FA3E6-5C65-449B-A6C0-6361B0012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C22D1-DC12-4887-9EF3-8AFC2130A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B3F6C-0CBF-4E97-A61E-29E0E4EE4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93487-4F65-441E-90B9-D6639347D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DCCF0F-92A8-498D-BE96-BEF63EC34FB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