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52389"/>
        <c:axId val="73890382"/>
      </c:barChart>
      <c:catAx>
        <c:axId val="33752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90382"/>
        <c:crosses val="autoZero"/>
        <c:auto val="1"/>
        <c:lblAlgn val="ctr"/>
        <c:lblOffset val="100"/>
        <c:noMultiLvlLbl val="0"/>
      </c:catAx>
      <c:valAx>
        <c:axId val="73890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52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A85-3982-4FCD-8708-3E7070F2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584-FB26-47A8-B231-D169CB5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968-8C16-40E3-99D3-543E72CD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89AA-B2EA-4397-BA39-050DB3D5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1AD7-8561-4448-94E6-6E6467A4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686-1466-41F9-9BF7-455E7284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04A1-7B73-40C4-A15E-B3FC0E1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14A-08DA-4688-A108-F5ADA88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130-6597-4B4D-99E1-80384ADD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E66-CC3C-4166-9613-EFE78B55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D4C-64B3-4A69-B78C-A54EAD6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ACA5-A3C0-44C8-A57B-A8EB225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0A7B5-85E5-4427-B043-E35E0460DE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